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33D-B925-424D-ABF6-78782CE6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88C-DFFA-4F10-91F9-F680999C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1AB-7282-4AAF-926F-4BA6888B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69B-8DDD-4E0F-9759-5C1D59F5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E6D-364F-4127-AD28-76794336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619-D9D1-41F1-B155-3E8F3944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DD2-27B7-487F-9B32-6591AFB5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940-9631-4D29-8AFF-394C631E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108-61E0-4D90-BD09-429479C7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CA1-7882-481A-BB3B-DA4B2209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6BA-6C50-438E-8C11-DA403267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E86-FA43-458E-AB71-4DA81E9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97566-9DD9-4339-8CE3-129520EADD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D819B-5914-435F-AC3F-15A1EB137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80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aryotic cells are described as th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karyotic cells are described as th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spring from sexual reproduction have a ____________ of DNA from their pa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spring from asexual reproduction have _______________ DNA to their pa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parents are involved in sexual reproduc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parents are involved in asexual reproduc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ther name for 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lant with purple flowers and a plant with blue flowers are crossed, and all their offspring come out blue, which trait is recessiv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lant with purple flowers and a plant with blue flowers are crossed, and all their offspring come out purple, which trait is recessiv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karyotic cells have this organel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747960" y="5308560"/>
            <a:ext cx="2068560" cy="1303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6411960" y="5308560"/>
            <a:ext cx="17920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spring have the same DNA as their par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spring have DNA that is similar to their par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ig bat and a little bat are crossed, 3 of the offspring are big, one of the offspring is little.  Little is the _________tra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red ladybug and a yellow ladybug are crossed.  Their offspring all come out yellow.  Yellow is the ______________ tra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nucleus contains this genetic materi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se are things about an organisms appear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ual and asexual reproduction are both used to do th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th eukaryotic and prokaryotic cells have this organel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mals, plants, and fungi are this type of organis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teria are this type of organis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prokaryotes the DNA is found he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ms that reproduce sexually are always th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0:42:25Z</dcterms:created>
  <dc:creator>Caroline Roth</dc:creator>
  <dc:description/>
  <dc:language>en-US</dc:language>
  <cp:lastModifiedBy>Caroline Roth</cp:lastModifiedBy>
  <cp:lastPrinted>2011-02-10T03:42:45Z</cp:lastPrinted>
  <dcterms:modified xsi:type="dcterms:W3CDTF">2011-04-29T04:29:11Z</dcterms:modified>
  <cp:revision>6</cp:revision>
  <dc:subject/>
  <dc:title>Slide 1</dc:title>
</cp:coreProperties>
</file>